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ABD-646C-42ED-A380-2053DB1CD057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bøker: de fem mosebø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untlige overleveringer: menneskene i GT var nomader, fortalte sin slektshistorie rundt bå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oesi: di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domsord: om hvordan man bør leve for at det skal gå deg godt og du skal holde deg nær til G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fettekster: profetene formidler Guds budskap, forteller hva menneskene bør gjø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tekster: inneholder lover for hvordan folket bør l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A92-09D9-4998-8A51-7AB009EA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D6A-38D7-4286-9110-88E811E4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91B-3FAC-41FC-9411-61BAF4A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547-1FBD-40D5-8BC4-332EF011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7A6-D6CE-48A6-8526-E096C19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1AD9-5654-4F4B-93E5-E917BEC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C97-192E-471A-B3D7-488A643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539-8DD7-41FB-898D-E362A2E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BDA-4AF3-4F60-BA69-03880CD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F4D0-6A56-496E-AA96-7F70493D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8BE-0C4E-49D1-B610-472371C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D5B-B648-4A0F-944A-FE92FEB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BEBB-233D-4FD3-A8AA-8DF779C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DC4-D5A7-4A51-B248-B7B6208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87C-34D6-4659-8B9B-7B377D2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8442-9E4F-4637-A8B7-47214969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8ECC-3864-44C6-BA54-CE038305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8E1-2599-4E24-9B4A-9AC5CA62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E03-860B-4750-AA8F-18A02F9A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67-7F74-4360-84AA-3E23B05F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CA4-3C98-4EDB-A662-3F004B3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60C-0733-46CC-B5DC-6087AC1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9D3-00C3-48BD-9AC2-964EC83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3B2-6683-4CA6-A539-09273FC6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872C-77B4-4155-8FE5-8BA0E61D993A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BD1-3932-4F96-87CE-5D1947A97C6D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3366"/>
                </a:solidFill>
                <a:latin typeface="Times New Roman"/>
              </a:rPr>
              <a:t>BIBEL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bokhylle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10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Hvordan har Bibelen blitt t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Tatt ca. 500-1000 år å bli t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ørst muntlige overlevering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en navngitte forfattere, flest ukj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Bidrag for ulike forfattere er flettet samm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orfatterne – inspirert av G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ca. 100 år e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hebrai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skapelsen til ca. 200 år f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på slutten av 300-tal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gre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Jesu fødsel til de første kristne menighe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Sjangere i Bibel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oes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Visdoms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rofet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Lov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osebøk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avn etter Moses, men han har ikke skrevet dem. Mange forfattere over lang ti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lektstavler, familiefortellinger, historiestoff, lovsamlinger, poesi og my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Pakt – bindende avtale mellom to par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I Bibelen – mellom Gud og mennes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Gud tar initiativ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ynlig te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ah: regnb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Abraham: omskjæring av gut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Moses: to lovtavler med </a:t>
            </a:r>
            <a:r>
              <a:rPr b="0" i="1" lang="nb-NO" sz="2800" spc="-1" strike="noStrike">
                <a:solidFill>
                  <a:srgbClr val="003366"/>
                </a:solidFill>
                <a:latin typeface="Times New Roman"/>
              </a:rPr>
              <a:t>de ti b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er om pakt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oah: Gud skulle aldri mer ødelegge jorden med en storflom. Menneskene skulle ta vare på jord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Abraham: Gud lovte at han skulle bli stamfar til en stor slek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Moses: Abrahams pakt ble fornyet. Moses fikk loven av Gud. Den skulle folket hol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1:51:28Z</dcterms:created>
  <dc:creator>phvh</dc:creator>
  <dc:description/>
  <dc:language>en-US</dc:language>
  <cp:lastModifiedBy>lærer</cp:lastModifiedBy>
  <dcterms:modified xsi:type="dcterms:W3CDTF">2006-01-04T09:09:34Z</dcterms:modified>
  <cp:revision>7</cp:revision>
  <dc:subject/>
  <dc:title>BIBELEN</dc:title>
</cp:coreProperties>
</file>