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87DE-74F2-4E6D-BE41-F912BBBFA9DA}" type="slidenum"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Lovbøker: de fem mosebøk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Muntlige overleveringer: menneskene i GT var nomader, fortalte sin slektshistorie rundt bå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Poesi: di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Visdomsord: om hvordan man bør leve for at det skal gå deg godt og du skal holde deg nær til G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Profettekster: profetene formidler Guds budskap, forteller hva menneskene bør gjø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Lovtekster: inneholder lover for hvordan folket bør le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4320-443E-4DF0-B7D1-BF9149975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4B0F-AB5B-4AB3-9E33-AA57DFAA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F380-63E9-49A7-B2D0-E3F6A9D44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8F2A-AD71-427A-8DA1-1FFC7B191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6440-531B-4DB3-A2AB-0BE606DBB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3B77-D6EA-4CEB-92E9-B7A223E9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6E91-83B1-4CCD-8946-7ACA5F91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0F3E-2F4D-484E-9EA4-4647351C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3BDD-DF7B-4F3F-BC68-4C332E81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963B-FD05-4624-9392-0A244C9C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94FF-A382-4973-BD65-E096E5BE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88DF-B79D-41BF-B488-4F09EC7F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B73F-50EE-4D76-803D-2DCCA73D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9672-8A3D-4BEA-815E-46DA9BD5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1F43-BD4D-4ABB-A1CF-E480A282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2E34-312B-4ECF-8158-8246960E4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23AD-2AF3-42B0-BBB3-64FE107A2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7524-B6C5-4C63-9AFF-538B8806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099B-0D50-437B-A344-8C7B9E4A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187E-A330-434A-A45D-F687D990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D2DD-7873-49BD-A045-886AE013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D9CE-A2EF-4D58-AEB9-B55FC6B3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C810-CB58-4819-81B8-96401075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3C00-31D3-41B9-BFC4-C2CDDBFD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E65E-6554-4796-ACB2-F1B0504E3E7A}" type="slidenum">
              <a:rPr b="0" lang="nb-NO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F057-28CB-496F-AFE3-A31F55B8FF9D}" type="slidenum">
              <a:rPr b="0" lang="nb-NO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003366"/>
                </a:solidFill>
                <a:latin typeface="Times New Roman"/>
              </a:rPr>
              <a:t>BIBELE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8" name="bokhylle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5410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3366"/>
                </a:solidFill>
                <a:latin typeface="Times New Roman"/>
              </a:rPr>
              <a:t>Hvordan har Bibelen blitt til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3366"/>
                </a:solidFill>
                <a:latin typeface="Times New Roman"/>
              </a:rPr>
              <a:t>Tatt ca. 500-1000 år å bli ti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3366"/>
                </a:solidFill>
                <a:latin typeface="Times New Roman"/>
              </a:rPr>
              <a:t>Først muntlige overlevering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3366"/>
                </a:solidFill>
                <a:latin typeface="Times New Roman"/>
              </a:rPr>
              <a:t>Noen navngitte forfattere, flest ukjen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3366"/>
                </a:solidFill>
                <a:latin typeface="Times New Roman"/>
              </a:rPr>
              <a:t>Bidrag for ulike forfattere er flettet samme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3366"/>
                </a:solidFill>
                <a:latin typeface="Times New Roman"/>
              </a:rPr>
              <a:t>Forfatterne – inspirert av Gu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3366"/>
                </a:solidFill>
                <a:latin typeface="Times New Roman"/>
              </a:rPr>
              <a:t>G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20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Ferdig ca. 100 år e.Kr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Skrevet på hebraisk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Handling: fra skapelsen til ca. 200 år f.Kr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3366"/>
                </a:solidFill>
                <a:latin typeface="Times New Roman"/>
              </a:rPr>
              <a:t>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Ferdig på slutten av 300-talle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Skrevet på gresk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Handling: fra Jesu fødsel til de første kristne menighet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3366"/>
                </a:solidFill>
                <a:latin typeface="Times New Roman"/>
              </a:rPr>
              <a:t>Sjangere i Bibel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Poesi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Visdomsor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Profettekst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Lovtekst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3366"/>
                </a:solidFill>
                <a:latin typeface="Times New Roman"/>
              </a:rPr>
              <a:t>Mosebøke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Navn etter Moses, men han har ikke skrevet dem. Mange forfattere over lang tid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Slektstavler, familiefortellinger, historiestoff, lovsamlinger, poesi og myt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3366"/>
                </a:solidFill>
                <a:latin typeface="Times New Roman"/>
              </a:rPr>
              <a:t>Pakt – bindende avtale mellom to part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I Bibelen – mellom Gud og mennesk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Gud tar initiative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Synlig teg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3366"/>
                </a:solidFill>
                <a:latin typeface="Times New Roman"/>
              </a:rPr>
              <a:t>Noah: regnbu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3366"/>
                </a:solidFill>
                <a:latin typeface="Times New Roman"/>
              </a:rPr>
              <a:t>Abraham: omskjæring av gutt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3366"/>
                </a:solidFill>
                <a:latin typeface="Times New Roman"/>
              </a:rPr>
              <a:t>Moses: to lovtavler med </a:t>
            </a:r>
            <a:r>
              <a:rPr b="0" i="1" lang="nb-NO" sz="2800" spc="-1" strike="noStrike">
                <a:solidFill>
                  <a:srgbClr val="003366"/>
                </a:solidFill>
                <a:latin typeface="Times New Roman"/>
              </a:rPr>
              <a:t>de ti bu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3366"/>
                </a:solidFill>
                <a:latin typeface="Times New Roman"/>
              </a:rPr>
              <a:t>Mer om pakte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Noah: Gud skulle aldri mer ødelegge jorden med en storflom. Menneskene skulle ta vare på jorden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Abraham: Gud lovte at han skulle bli stamfar til en stor slek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Moses: Abrahams pakt ble fornyet. Moses fikk loven av Gud. Den skulle folket hold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3T21:51:28Z</dcterms:created>
  <dc:creator>phvh</dc:creator>
  <dc:description/>
  <dc:language>en-US</dc:language>
  <cp:lastModifiedBy>lærer</cp:lastModifiedBy>
  <dcterms:modified xsi:type="dcterms:W3CDTF">2006-01-04T09:09:34Z</dcterms:modified>
  <cp:revision>7</cp:revision>
  <dc:subject/>
  <dc:title>BIBELEN</dc:title>
</cp:coreProperties>
</file>