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DB1-A019-4A89-ACFD-7A249CA4C832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bøker: de fem mosebøk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Muntlige overleveringer: menneskene i GT var nomader, fortalte sin slektshistorie rundt bå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oesi: di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Visdomsord: om hvordan man bør leve for at det skal gå deg godt og du skal holde deg nær til G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Profettekster: profetene formidler Guds budskap, forteller hva menneskene bør gjø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Lovtekster: inneholder lover for hvordan folket bør l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555-F5AD-4E98-B275-6F6FB7D2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251-6C07-4E52-B7AD-8785E8CD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3AE-E6A7-403F-8CFC-F074FB64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0CD-70B7-4BA6-8492-28889ACA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4B7D-A1DD-4E06-8AA0-8C5C1BC6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AC8D-9DC9-4822-8ACD-4316CE1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498-6580-43BB-A4B0-46226AD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1E03-946C-445E-9C0C-0DD85DC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ED4-83E6-4470-B01A-B5EC44D9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44AF-22F5-4B4C-9260-11E8CB5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F722-9AB7-41E0-8CC3-416EC52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7C5-2906-4730-B6C3-88DFAE1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E4D-AB60-463A-92D3-C8A504F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76B2-3C55-445A-8BA0-A8CAE89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352-D718-41E2-A8E0-B1D964B5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E09F-4E48-4983-BE14-9DB27BE8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089B-61A6-4C6F-BC07-EC93309F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961-4310-477D-A128-6936888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D4D-F96C-4CF4-B1F2-5EDF2A4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75D-A390-4343-A895-E9EDCF9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807-5C20-46C3-B03B-FABBCF6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633-57AA-4BB8-B2FF-11D9A70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532-0BD3-46B8-B16B-B784B45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B82-2305-4EA3-B982-D1FA084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354B-D502-480E-BC03-9AEC6DFACDA6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AEE9-6B50-4477-AB40-27DFEC8807E1}" type="slidenum">
              <a:rPr b="0" lang="nb-NO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3366"/>
                </a:solidFill>
                <a:latin typeface="Times New Roman"/>
              </a:rPr>
              <a:t>BIBEL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bokhylle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410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Hvordan har Bibelen blitt til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Tatt ca. 500-1000 år å bli ti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ørst muntlige overlevering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en navngitte forfattere, flest ukjen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Bidrag for ulike forfattere er flettet samm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Forfatterne – inspirert av G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ca. 100 år e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hebrai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skapelsen til ca. 200 år f.K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Ferdig på slutten av 300-tall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krevet på gres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Handling: fra Jesu fødsel til de første kristne menighe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Sjangere i Bibel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oes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Visdoms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Profet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Lovteks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osebøk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avn etter Moses, men han har ikke skrevet dem. Mange forfattere over lang ti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lektstavler, familiefortellinger, historiestoff, lovsamlinger, poesi og my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Pakt – bindende avtale mellom to par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I Bibelen – mellom Gud og mennes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Gud tar initiative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Synlig te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Noah: regnb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Abraham: omskjæring av gutt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3366"/>
                </a:solidFill>
                <a:latin typeface="Times New Roman"/>
              </a:rPr>
              <a:t>Moses: to lovtavler med </a:t>
            </a:r>
            <a:r>
              <a:rPr b="0" i="1" lang="nb-NO" sz="2800" spc="-1" strike="noStrike">
                <a:solidFill>
                  <a:srgbClr val="003366"/>
                </a:solidFill>
                <a:latin typeface="Times New Roman"/>
              </a:rPr>
              <a:t>de ti bu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3366"/>
                </a:solidFill>
                <a:latin typeface="Times New Roman"/>
              </a:rPr>
              <a:t>Mer om pakt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Noah: Gud skulle aldri mer ødelegge jorden med en storflom. Menneskene skulle ta vare på jord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Abraham: Gud lovte at han skulle bli stamfar til en stor slek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3366"/>
                </a:solidFill>
                <a:latin typeface="Times New Roman"/>
              </a:rPr>
              <a:t>Moses: Abrahams pakt ble fornyet. Moses fikk loven av Gud. Den skulle folket hold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1:51:28Z</dcterms:created>
  <dc:creator>phvh</dc:creator>
  <dc:description/>
  <dc:language>en-US</dc:language>
  <cp:lastModifiedBy>lærer</cp:lastModifiedBy>
  <dcterms:modified xsi:type="dcterms:W3CDTF">2006-01-04T09:09:34Z</dcterms:modified>
  <cp:revision>7</cp:revision>
  <dc:subject/>
  <dc:title>BIBELEN</dc:title>
</cp:coreProperties>
</file>