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F8C6-68B4-4D32-9250-07B1F111A939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Lovbøker: de fem mosebø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Muntlige overleveringer: menneskene i GT var nomader, fortalte sin slektshistorie rundt bå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Poesi: di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Visdomsord: om hvordan man bør leve for at det skal gå deg godt og du skal holde deg nær til G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Profettekster: profetene formidler Guds budskap, forteller hva menneskene bør gjø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Lovtekster: inneholder lover for hvordan folket bør l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46A-484B-48CF-8AA6-529312A5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C77-4E39-4C18-9DE2-FABA2307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9BA-EA43-4E9F-8A2B-C8588040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697-DFF8-4929-B50F-F37D4B23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79D8-465F-4AA7-A9EF-39278164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7C5E-29FA-4BFA-BBDF-9D10BC26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88F2-BE10-4675-9F85-8986A344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3991-CA0F-4F83-9824-B018590B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1E9D-FE05-4E44-904E-26440D01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405D-4726-470D-9782-A5E5F8C1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BBF5-F838-4D72-8C1B-FBEACA3F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F21-30D7-4313-80CC-30D959FA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6244-91B6-4F1C-B078-EB8EA93D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D755-FABE-4DBA-961B-79C960E4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24F5-BBB5-493C-880F-6C288734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73EB-6C7A-4827-875C-DDD7D9B5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E59A-3AC3-4168-A53B-58D9A97E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70F-378D-4125-B13F-732DDA7C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EB4-A0CC-4397-9044-C10C3F14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59F-2EB5-47FD-9059-186AAEB3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FA3-0680-4823-BAF1-FF87A63E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C60-2F48-4C55-99EA-8724B318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34A-819D-4DF8-B225-41044926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21D-A303-449B-B37B-FA95C2B2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54D3-3684-4B6D-90A7-6A5F78BC9533}" type="slidenum"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0EFF-CFE8-415B-9B01-5BB334C408C9}" type="slidenum"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3366"/>
                </a:solidFill>
                <a:latin typeface="Times New Roman"/>
              </a:rPr>
              <a:t>BIBEL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bokhylle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410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Hvordan har Bibelen blitt til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Tatt ca. 500-1000 år å bli ti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Først muntlige overlevering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Noen navngitte forfattere, flest ukjen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Bidrag for ulike forfattere er flettet samme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Forfatterne – inspirert av Gu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G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Ferdig ca. 100 år e.K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Skrevet på hebrais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Handling: fra skapelsen til ca. 200 år f.K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Ferdig på slutten av 300-talle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Skrevet på gres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Handling: fra Jesu fødsel til de første kristne menighe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Sjangere i Bibel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Poes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Visdoms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Profetteks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Lovteks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Mosebøke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Navn etter Moses, men han har ikke skrevet dem. Mange forfattere over lang ti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Slektstavler, familiefortellinger, historiestoff, lovsamlinger, poesi og my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Pakt – bindende avtale mellom to par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I Bibelen – mellom Gud og mennesk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Gud tar initiative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Synlig teg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Noah: regnbu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Abraham: omskjæring av gut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Moses: to lovtavler med </a:t>
            </a:r>
            <a:r>
              <a:rPr b="0" i="1" lang="nb-NO" sz="2800" spc="-1" strike="noStrike">
                <a:solidFill>
                  <a:srgbClr val="003366"/>
                </a:solidFill>
                <a:latin typeface="Times New Roman"/>
              </a:rPr>
              <a:t>de ti bu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Mer om pakte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Noah: Gud skulle aldri mer ødelegge jorden med en storflom. Menneskene skulle ta vare på jorde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Abraham: Gud lovte at han skulle bli stamfar til en stor slek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Moses: Abrahams pakt ble fornyet. Moses fikk loven av Gud. Den skulle folket hold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21:51:28Z</dcterms:created>
  <dc:creator>phvh</dc:creator>
  <dc:description/>
  <dc:language>en-US</dc:language>
  <cp:lastModifiedBy>lærer</cp:lastModifiedBy>
  <dcterms:modified xsi:type="dcterms:W3CDTF">2006-01-04T09:09:34Z</dcterms:modified>
  <cp:revision>7</cp:revision>
  <dc:subject/>
  <dc:title>BIBELEN</dc:title>
</cp:coreProperties>
</file>